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78F-0967-41AF-887D-774F99E6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7F4-9721-4040-A703-53C53B0A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5EF-0363-453E-9D36-40E7DFB3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3B2-FECD-4CF4-9999-2383FCCC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932-D516-404F-AEBC-AFCD646C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D66-8434-4416-B8A0-B4F78065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EAF-FC1E-4BA5-9D87-66D26770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168-706B-47F6-BBB8-90C4E80D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F57-C752-4322-B691-B40A3D9D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C59-8D52-47B3-876B-0E22F085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383-5C9E-405B-A189-D5C34DD1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E3A-E3D7-4CFB-9B06-F26ABA5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E7F2-CE1F-4113-A3D2-21877E7DE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32.xml"/><Relationship Id="rId6" Type="http://schemas.openxmlformats.org/officeDocument/2006/relationships/slide" Target="slide5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4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bmfinal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788800">
            <a:off x="2057040" y="533520"/>
            <a:ext cx="5776920" cy="17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et's Pl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200400"/>
            <a:ext cx="66294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2860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Grade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answer to a division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X 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X 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+ 4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+ 4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180 in expanded fo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+ 8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+ 8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+ 8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+ 80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180 in expanded fo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+ 8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+ 80 +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6/12 in lowest ter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6/12 in lowest ter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perimeter of a square with a length of 5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  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 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 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5228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illionaire Stu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perimeter of a square with a length of 5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call a shape with two sets of  paralle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four right ang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call a shape with two sets of  paralle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four right ang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inches are there in 2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inches are there in 2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call the distance around a cir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m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call the distance around a cir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m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 x 100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 x 100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this fraction to a decima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495680"/>
            <a:ext cx="3200400" cy="1676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83808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4952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s ES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this fraction to a decima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 these fractions in order from least to grea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4, 1/2, 1/3, 1/8, 1/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, 1/3, 1/4, 1/5, 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5, 1/2, 1/3, 1/4, 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8, 1/5, 1/4, 1/3,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8, 1/3, 1/5, 1/4,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 these fractions in order from least to grea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4, 1/2, 1/3, 1/8, 1/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, 1/3, 1/4, 1/5, 1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8, 1/5, 1/4, 1/3,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=9 and b=3 and c=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x b + c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=9 and b=3 and c=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x b + c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I leave my house at 10:15 am on Thursday, go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me home at 4:56 the sam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uch time has pa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hours 56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hours 41 min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hours 19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hours 21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I leave my house at 10:15 am on Thursday, go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me home at 4:56 the sam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uch time has pa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hours 41 min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hours 21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609480"/>
            <a:ext cx="7848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ll on any ad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 stud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de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419720"/>
            <a:ext cx="419112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648320"/>
            <a:ext cx="3962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Cl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iously 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267080"/>
            <a:ext cx="3886200" cy="1828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Cl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iously 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5638680"/>
            <a:ext cx="3200400" cy="121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594360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6019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s E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5181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4114800"/>
            <a:ext cx="4191120" cy="236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19112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Cli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iously View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Answ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bmfinal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answer to a division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sibel</cp:lastModifiedBy>
  <dcterms:modified xsi:type="dcterms:W3CDTF">2010-03-15T08:29:42Z</dcterms:modified>
  <cp:revision>159</cp:revision>
  <dc:subject/>
  <dc:title>PowerPoint Presentation</dc:title>
</cp:coreProperties>
</file>